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0301405"/>
        <c:axId val="92968257"/>
      </c:barChart>
      <c:catAx>
        <c:axId val="8030140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2968257"/>
        <c:crosses val="autoZero"/>
        <c:auto val="1"/>
        <c:lblAlgn val="ctr"/>
        <c:lblOffset val="100"/>
        <c:noMultiLvlLbl val="0"/>
      </c:catAx>
      <c:valAx>
        <c:axId val="9296825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030140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06D82-497F-40ED-A461-80747096E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79233-7F64-4EED-B315-C21907B6C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52556-F382-44A2-B1B4-52F51DE7E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CDEE6-BC5A-4482-A40C-0A27BD7FE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D6251-D90A-4E22-9BFF-7A7706F9B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8C140-55DA-409A-9109-9F66EBB2C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186DC-9B18-4BA6-A826-50F66FC20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8F03A-CCCD-4732-9F16-463AF982F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AD158-E91F-4E33-853F-280CCDF94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ABD0F-23CA-4B50-AC70-1644EB766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C70EA-5EFB-4302-8A48-8D938F97E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D778B-6ABC-4D37-8E27-8BB5C23C3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830F0-1215-4EBE-B2A5-919DAE26B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D5589-9C12-46A7-9F10-ECFB99D61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F79DF-D7DB-4F44-AC68-874642CD9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A4CA2-01CB-4058-ABB5-E32A5BD43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0E4BD-1DD1-4BA8-931A-BFA18A215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15624-6CC9-4B71-A21F-8CCE44772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68AC4-A2B8-4C74-8242-9812479FE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964FD-512F-4635-AFEA-0CF46AE71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54C0-981F-47C6-AD08-D4BFEAC84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726DF-5242-4769-8D88-3231E002B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4C7ED-7FC5-45A8-88B4-A6B021DF3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DE6F5-A03C-480B-A809-7E5AE99AE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DE21A4-A2F0-45A0-BAE6-39770378D4C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347EBE-3B11-4234-B7BD-A42C2A02E16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